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D5BE-F9B8-4E21-9DF6-17548DCE5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40B-C2C2-4DE7-8C1B-575CBF05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88AC-7B77-46BF-A3F4-96BAEEB7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1329-5AC6-4D58-AA20-5BC81EC9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D748-C588-497E-9C2E-115242A8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50B-91EB-4F41-8E04-6934ED02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365-2851-491F-BCA4-E2D1BE55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B1A5-D5C2-455E-815F-219C3324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A784-6252-462D-9AA1-1FA02224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1821-8E16-405F-A7FE-6AA4E7BE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5EB3-8F4C-413E-AC3B-A846F438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5F03-AE6D-4FC9-8F80-CE29F5D8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1745-445A-4211-8B5F-F1E35D637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ry Movement Que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Fisher Midg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icture is Naturalis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cture is of naturalism because it shows an event that naturally occurs in the environment around u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endental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hilosophical movement that developed in the New England region as a general protest to culture and society as a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ssed a change to happen in society and culture to make life be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004840" y="933480"/>
            <a:ext cx="51343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icture is Transcendentalism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icture shows transcendentalism because it is showing change. This picture is meant to represent someth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Google Images."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Web. 21 Feb. 201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rson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American Expiri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Boston: Pearson, 2007. Pri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tic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anticism was an artistic, literary, and intellectual movement that originated in the second half of the 18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 imagination, emotion, nature, individuality, and exo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230px-Szarza_w_wawozie_Somosierra"/>
          <p:cNvPicPr/>
          <p:nvPr/>
        </p:nvPicPr>
        <p:blipFill>
          <a:blip r:embed="rId1"/>
          <a:stretch/>
        </p:blipFill>
        <p:spPr>
          <a:xfrm>
            <a:off x="2590920" y="533520"/>
            <a:ext cx="40273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icture is Romanticis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icture shows Romanticism because it shows forms of emotion, imagination, and also nature in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m is  the presentation of art of the details of actual life during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ovement stressed the actual instead of the imagined or fanci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50px-Millet_Gleaners"/>
          <p:cNvPicPr/>
          <p:nvPr/>
        </p:nvPicPr>
        <p:blipFill>
          <a:blip r:embed="rId1"/>
          <a:stretch/>
        </p:blipFill>
        <p:spPr>
          <a:xfrm>
            <a:off x="1447920" y="868320"/>
            <a:ext cx="63244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icture is Realis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cture is of realism because it shows the actual life of the people while they are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terary movement that used detailed realism to suggest that social conditions, heredity, and the environment had an inescapable force in shaping human charac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ssed the things around you that were happening every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2437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5:00:24Z</dcterms:created>
  <dc:creator>dcsuser</dc:creator>
  <dc:description/>
  <dc:language>en-US</dc:language>
  <cp:lastModifiedBy>FISHER</cp:lastModifiedBy>
  <dcterms:modified xsi:type="dcterms:W3CDTF">2012-02-23T03:17:09Z</dcterms:modified>
  <cp:revision>10</cp:revision>
  <dc:subject/>
  <dc:title>Literary Movement Quest </dc:title>
</cp:coreProperties>
</file>